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357F-A059-4A4A-95DC-BE1E5C44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ECC8-FD6A-4097-A00C-C235A04F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1E9-2005-48BD-BAFC-378C8430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387F-AD92-4CB3-BC4A-6F649DFE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332-0104-4A42-83AB-6D9B1F6F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F8B-62A9-4E5E-A648-3DDCF1DE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9144-9F9F-4ED4-B150-DF57916F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4EC1-5933-4209-964E-B85F27D0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F8F0-4255-4A5B-B3B8-AC2BFFC6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6AF1-9420-466A-A453-8DBE581B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BB25-460A-4B65-AE97-92F4359C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22AB-7C2B-4A7B-8632-6156312E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BED3-0358-44AF-8408-0E47D22AD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arg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7086600" cy="4952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argument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como secuencia textual, aparece en muchas actividades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discursiv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aracterísticas de la vida social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públic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privad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Puesto que la finalidad de la argumentación es la de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convence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persuadi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l interlocutor (individual o colectivo), argumentamos en muchas ocasiones: durante una conversación, en una entrevista para conseguir empleo, en una publicidad, en un artículo de opinión, de crítica literaria o cinematografica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argumentación se utiliza en una ampli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variedad de texto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, especialmente en los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científico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filosófico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, en el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ensay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, en l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oratoria política y judicial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, en los textos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periodísticos de opinión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y en algunos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mensajes publicitario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 En l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lengua oral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, además de aparecer con frecuencia en la conversación cotidiana (aunque con poco rigor), es la forma dominante en los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debat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coloquios o mesas redondas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5897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otras palabras decimos que la argumentación responde a la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función comunicativ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lograr la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adhesión del Recep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característic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fundamentales de la argumentación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Obje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cualquier tema controvertido, que se puede tratar de diferentes maner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Locuto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manifiesta su opinión de manera axiológica, tomando 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Carácte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polémico, basado en la contraposición de dos o más posturas.  Se formulan enunciados en contraposición con otros enunciad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Objetiv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provocar la adhesión, persuadir, convencer a un interlocutor o a un público de la aceptabilidad de una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4560" y="152280"/>
            <a:ext cx="8381880" cy="597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resumen decimos que la modalidad argumentativa se arma 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artir de un problema y de más de una forma de darle solu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encuentra con frecuencia en situaciones de comunicación dialogales en que hay un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Proponente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y un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Oponen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u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roblema que se deba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un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Propuest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un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Contrapropuest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una búsqueda de argumentos, llamad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Ley de paso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, que lleve a un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Conclusión.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82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 texto argumentativo suele organizar el contenido en tres apartad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introducció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desarrollo o cuerpo argumentativo, y conclu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INTRODUCCIÓ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suele partir de una breve exposición (llamada también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 encuadre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”) en la que el argumentador intent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captar la atenció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del destinatario y despertar en él una actitud favora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5516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DESARROLL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 A la introducción le sigue l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tesi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, que es l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idea en torno a la cual se reflexion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 Puede estar constituida por una sola idea o por un conjunto de ell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ide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o ideas que se pretende demostrar se despliegan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desde dos perspectiv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na de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defens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(se van ofreciendo los argumentos para confirmarla)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de ell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y otra de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refutación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contr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previsibles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obje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que podría hacer el adversario.  La primera no debe faltar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onclusió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Aquí se d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la demostración, donde s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reflexiona sobre el tema desde todos los ángul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hasta llegar al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objetiv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seado, que s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ofrece como conclus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 menudo anunciada al comienzo del escrito. Puede presentarse de varias formas: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Afirmando la idea princip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El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contenid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que  se desarrolla asume el rango de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tesi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orque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explica el problem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o los fenómenos que se tratan en una idea gene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· 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Como propuesta sugerent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Este tipo de conclusión se distingue porque el escrito, si bien recoge en síntesis la idea sustancial de la exposición,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no llega a hacer definitivo su razonamiento o a completar su inform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Se asientan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sugerenci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ara futuros trabajos,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abriendo camin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hacia otras perspectivas antes de poner punto final al propio tex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elemento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que forman el cuerpo argumentativo se denominan </a:t>
            </a:r>
            <a:r>
              <a:rPr b="1" i="1" lang="es-ES" sz="3200" spc="-1" strike="noStrike">
                <a:solidFill>
                  <a:srgbClr val="ff0066"/>
                </a:solidFill>
                <a:latin typeface="Arial"/>
              </a:rPr>
              <a:t>pruebas, inferencias o argumentos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 y sirven para apoyar la tesis o refutar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gún la situación comunicativa, se distingue ent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ESTRUCTUR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MONOLOGAD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voz de un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solo sujet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organiza la totalidad del texto argumentativo. Es el caso del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investigador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que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valora el éxito de un descubrimient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en una confer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ESTRUCTURA DIALOGAD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planteamiento, la refutación o la justificación y la conclusión se desarrollan a lo largo de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réplicas sucesiv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 Es el caso de los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debat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en los que es fácil que surjan l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controversi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, la emisión de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juicios pasionales, las descalificaciones y las ironías</a:t>
            </a:r>
            <a:r>
              <a:rPr b="0" lang="it-IT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rgumentación puede presentarse en orden </a:t>
            </a:r>
            <a:r>
              <a:rPr b="0" i="1" lang="es-ES" sz="3200" spc="-1" strike="noStrike">
                <a:solidFill>
                  <a:srgbClr val="ff0066"/>
                </a:solidFill>
                <a:latin typeface="Arial"/>
              </a:rPr>
              <a:t>progresivo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i partimos de las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remis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que llevan a la conclusión,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ES" sz="3200" spc="-1" strike="noStrike">
                <a:solidFill>
                  <a:srgbClr val="ff0066"/>
                </a:solidFill>
                <a:latin typeface="Arial"/>
              </a:rPr>
              <a:t>regresivo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si saliendo de l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onclus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e aducen justifica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orden en el que aparezcan en el texto depende del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efec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que quiera conseguir el autor y del razonamiento que si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305920" cy="559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apacidad de argumentar es un rasgo definitorio del ser humano que se desarrolla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lingüísticament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de sus orígenes, la filosofía se ha ocupado de ello, estudiando los distintos tipos de discurso de los que se sirve la literatura, la política o la ciencia, pero tratando de crear, a su vez, un lenguaje formalizado que despeje al razonamiento de las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ambigüedad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imprecis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 las que con frecuencia lo sujeta la retórica del lenguaje natu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e camino es el de la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lógic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averiguar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como se relaciona la estructura del pensamiento con la “realidad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í, si el método que ha seguido en el proceso argumentativo es </a:t>
            </a:r>
            <a:r>
              <a:rPr b="0" i="1" lang="es-ES" sz="3200" spc="-1" strike="noStrike">
                <a:solidFill>
                  <a:srgbClr val="ff0066"/>
                </a:solidFill>
                <a:latin typeface="Arial"/>
              </a:rPr>
              <a:t>inductiv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s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inici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la argumentación co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hechos concret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ara hallar o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inducir una norma gener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que los expliqu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tesis suele aparecer al final del texto,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modo de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 conclus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se va desde lo particular hasta lo general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 embargo, el autor puede utilizar un método </a:t>
            </a:r>
            <a:r>
              <a:rPr b="0" i="1" lang="es-ES" sz="3200" spc="-1" strike="noStrike">
                <a:solidFill>
                  <a:srgbClr val="ff0066"/>
                </a:solidFill>
                <a:latin typeface="Arial"/>
              </a:rPr>
              <a:t>deductiv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i parte de unas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remisas genera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lógicamente válidas, para extraer un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ley particul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que su tesis exp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52280" y="609120"/>
            <a:ext cx="8686800" cy="586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autor puede utilizar también una maner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arale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pretende manifestar de form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encadenad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ideas indiscutibles (verdaderas o falsas), que no están subordinadas unas a otras por su contenido,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no demuestra hipótesis ni saca conclusion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559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afán por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lograr la adhesión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de los posibles destinatarios a las ideas expuestas hace que el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proceso argumentativo se diversifique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, buscando siempre estructuras que ayuden a convencer mej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 este modo, algunos textos ofrecen un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Estructur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encuadrad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, con lo que se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enfatiz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mucho más l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ide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defendid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y se apoya su lógica con la conclusión final, un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reafírmación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de l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tesi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presentada al comienzo del text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sis - Argumentos - Tesis ==&gt; Conclusión f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la </a:t>
            </a:r>
            <a:r>
              <a:rPr b="0" i="1" lang="es-ES" sz="3200" spc="-1" strike="noStrike">
                <a:solidFill>
                  <a:srgbClr val="ff0066"/>
                </a:solidFill>
                <a:latin typeface="Arial"/>
              </a:rPr>
              <a:t>estructura explicativ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l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tesi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fendida aparece al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omienz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l texto, para ser a continuació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apoyad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or un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serie de argument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sis ==&gt; Argume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i="1" lang="es-ES" sz="3200" spc="-1" strike="noStrike">
                <a:solidFill>
                  <a:srgbClr val="ff0066"/>
                </a:solidFill>
                <a:latin typeface="Arial"/>
              </a:rPr>
              <a:t>argumentaciones conclusiv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por el contrario, son aquellas en las que el autor expon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en primer lugar los argument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l texto con un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tesi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que los englob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gumentos ==&gt; T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 su vez, los argumentos empleados pueden ser de distintos tip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Argumentos racionale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: Se basan en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ideas y verdade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admitidas y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aceptada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por el conjunto de la soci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Argumentos de hech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: Se basan en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pruebas comprobables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Argumentos de ejemplificació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: Se basan en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ejemplos concreto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b2ec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Argumentos de autoridad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: Se basan en l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opinió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de una persona de reconocido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prestigi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Argumentos que apelan a los sentimiento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 Con estos argumentos se pretende halagar, despertar compasión, ternura, odi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66"/>
                </a:solidFill>
                <a:latin typeface="Arial"/>
              </a:rPr>
              <a:t>Procedimientos discurs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trata de procedimientos que no son exclusivos de la argumentación antes bien son compartidos por otros modos de organización textual, como la exposición. Destac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DEFINICIÓN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 En la argumentación se emplea par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explicar el significado de concepto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 En ocasiones, se utiliza para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demostrar los conocimiento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que tiene el argument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COMPARACIÓ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(o analogía) sirve para ilustrar y hacer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más comprensible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lo explicado. Establece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paralelismo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entre lo argumentado y otro hecho, una forma de aclaración que facilita su comprensión por parte de los destinatarios. Este tipo de argumento se basa en la relación de semejanza entre dos hech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uchas veces sirve para acercar ciertos conceptos al lector comú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ndo se habla de argumentos se pueden consider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ruebas dialéctic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n las que se intent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refut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 un adversario o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onvencer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la verdad de la opinión mantenida por el argumentador como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razonami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ncaminado ante todo al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onvencimiento o la persuas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CITA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son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reproduccione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enunciado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emitidos por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experto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 Tienen el objetivo de dar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autenticidad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al contenido. Las citas se emplean como argumentos de autor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ENUMERACIÓN ACUMULATIV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consiste en aportar varios argumentos en serie. Cumple una función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intensificado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EJEMPLIFICACIÓ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se basa en aportar ejemplos concretos para apoyar la tesis. Se trata de casos particulares como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anécdota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cuento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metáforas, citas literaria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, etc.,  que se utilizan para extraer una regla general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Los ejemplos pueden ser también  el resultado de la experiencia individ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INTERROGACIÓ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se emplea con fines diversos: provocar, poner en duda un argumento, comprobar los conocimientos del receptor…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Procedimientos linguís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El párraf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es el cauce que sirve para distribuir los diferentes pasos (planteamiento, análisis o argumentos y conclusión) contenidos en la argumentación escri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05920" cy="5745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tre los elementos de cohesión textual que relacionan los contenidos repartidos en los diferentes párrafos destaca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repetición léxica o conceptual en torno al 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marcadores discursivo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que permiten seguir el proceso de análisis o argumentación y avisan del momento de la conclu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05920" cy="5745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i el texto pertenece al ámbito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científic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(jurídico, humanidades…) abundan en el léxico los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tecnicismo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 Si es de tema más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general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o de enfoque más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subjetiv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, suele utilizarse un léxico de registro predominantemente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estándar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a buena  contraargumentació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onfut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uno a un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todos los argumentos contrarios y, a ser posible,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añade alguno nuev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enca reparte los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onector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ás especificos de la argumentación en tres grup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ontrastiv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ausales y consecutiv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distributivo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expresion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ús frecuentes que se usan par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introduci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la propia opinión son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: </a:t>
            </a:r>
            <a:r>
              <a:rPr b="0" i="1" lang="es-ES" sz="3200" spc="-1" strike="noStrike">
                <a:solidFill>
                  <a:srgbClr val="ff0066"/>
                </a:solidFill>
                <a:latin typeface="Arial"/>
              </a:rPr>
              <a:t>pienso, creo, opino, a mi modo de ver, para mí, desde mi punto de vist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autor de un texto argumentativo puede tratar de demostrar la tesis que defiend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no só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ediante la utilización de argumentos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en favo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sus ide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el contrario, es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frecuente la inclusión de argumentos que las refuten,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ara a continuació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destruirl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ediante razonamientos lógic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trata de un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técnica agresiv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con la que demostrará a sus lectores u oyentes que todas las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objecion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osibles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a su tesi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han sido comprobadas 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invalidada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305920" cy="559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eamos a continuación un ejemplo de u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anuncio publicitari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que, como toda publicidad tiene una funció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ersuasiv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texto , que acompaña la foto de un hombre con sonrisa descarada y gafas de sol, que está detrás de una botella de vodka, es  una pregunta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¿qué diría tu mamá si te viese con Eristoff?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una afirmación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: Vodka Eristoff. Un lenguaje disti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153280" cy="5973840"/>
          </a:xfrm>
          <a:prstGeom prst="rect">
            <a:avLst/>
          </a:prstGeom>
          <a:solidFill>
            <a:srgbClr val="bbe0e3"/>
          </a:solidFill>
          <a:ln w="9360">
            <a:solidFill>
              <a:srgbClr val="b2ec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En qué se distingue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un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argumen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un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razonamien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 frecuencia aparecen como sinónimos, pero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no todos los razonamientos son argument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diferencian por su ámbito de influencia.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Se razona para si mismo; se argumenta para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Razonamos antes de argumenta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nuestro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argumen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trata de expresar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lo mejor del razonamiento. 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880" y="914040"/>
            <a:ext cx="8305920" cy="5211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mensaje, voluntariamente indefinido, apela al conflicto generacional entre una supuesta chica, que trasgrede las normas, y su mamá que puede enfadarse con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ómo transgrede la hija? A través de “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un lenguaje disti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”, o sea  saliendo con un hombre como el de la foto, mucho mayor que ella, o bebiendo una bebida alcohólica que no debería be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8381880" cy="5440320"/>
          </a:xfrm>
          <a:prstGeom prst="rect">
            <a:avLst/>
          </a:prstGeom>
          <a:solidFill>
            <a:srgbClr val="bbe0e3"/>
          </a:solidFill>
          <a:ln w="9360">
            <a:solidFill>
              <a:srgbClr val="b2ec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texto y la imagen de esta publicidad simulan una conversación, en la que hay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dos puntos de vista opuest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de l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hij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que v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ontr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las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onvencion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stablecidas, y el de l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mamá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qu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rit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u manera de comporta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solidFill>
            <a:srgbClr val="bbe0e3"/>
          </a:solidFill>
          <a:ln w="9360">
            <a:solidFill>
              <a:srgbClr val="b2ec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argu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pues, es la manifestació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extern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u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razonami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su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royección soci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una herramienta d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ersuas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gumentamos para que las ideas puedan ser compartidas. Se justific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la conclusión en términos comprensibles y persuasivos para los demá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 u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razonami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 u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argu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edia la misma distancia que va de u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ensami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 su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expresión oral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unque con frecuencia se emplean como sinónimos, como se ve, son cosas distin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argu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s una serie d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declaracion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que individualmente o en conjunto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dan pruebas de otra manifes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argumentac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y la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omunicac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stán estrechamente relacionadas: se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comunica para informar sobre al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esta exposición se puede argumentar para convencer y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persuadir de alguna propuest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mbas se pueden presentar de forma independ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305920" cy="5668920"/>
          </a:xfrm>
          <a:prstGeom prst="rect">
            <a:avLst/>
          </a:prstGeom>
          <a:solidFill>
            <a:srgbClr val="bbe0e3"/>
          </a:solidFill>
          <a:ln w="9360">
            <a:solidFill>
              <a:srgbClr val="b2ec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ra decidir si se  está  ante un argumento o no, simplemente se apelará al sentido común y a un  análisis del texto sobre el que hay que decidir, centrándose en los siguientes asp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1.  El texto, ¿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tiene una conclusión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?. Si es así, ¿cuál 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.  El texto ¿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ofrece razones que apoyen la conclusión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?, es decir, ¿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hay premis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? Si es así ¿cuáles s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3.  El texto ¿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presume que hay una relación entre premisas y conclus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? ¿Se infiere éstas de aquéll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05920" cy="5745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argumentación no suele darse en estado puro, suele combinarse con l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exposició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ientras l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exposició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 limita a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 mostrar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, la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argumentació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nta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 demostrar, convencer o cambiar ideas.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or ello, en un texto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argumentativ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además de la función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apelativ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presente en el desarrollo de los argumentos, aparecela función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referencial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, en la parte en la que se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expone la t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2-01T17:48:0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